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0F2C-FA77-47B1-BC27-278B72174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0281-FF11-4E04-8DC9-5538844B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3115-91DD-4CA7-B146-19A87B978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226E-557E-47F4-92E4-2B3BBD509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888B-F0E8-41EC-A535-D3340591C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647A-46A2-44D3-9B5A-7A6CC26C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1670-9CD6-4907-AA85-8F0072FF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7005-025E-4324-BCAC-E89260C3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D7E7C-92D5-4B8D-B697-75189518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589A-F7E3-4D35-B6A6-C72D621B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EF25-74FB-493D-AB40-E91FD189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7682-A1C0-4B2A-96B7-EAB6E960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F154-F2C8-43D1-B303-69AA10C5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1090-9BEE-465A-AB47-11BADC28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2DFD-29B7-43E8-BD09-7B888130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6F8C-0FFB-4131-BB09-09C5CE38E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74EC-7082-45F1-854D-E342DED9A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F10F-F30E-4DAD-9CAA-8A2965F2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9F7C-E02F-4EC6-9F56-C76DB2D5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A5B6-36D1-46CF-A416-28998102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71D7-7B82-4A91-A0BA-50ACE3C6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3996-CC61-4DCE-A2D4-31512AE2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B349-16BC-4BEA-AED2-54EE2B34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47B1-B732-4BAB-9C74-2FB268EF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C19F-B1E7-4B6E-A5DD-9434F4B950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B06E-FAB7-42CC-A635-360A655C40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IZVEDBENI NAČRT RRP ZASAVSKE REGIJE ZA OBDOBJE 2007-2009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488360" cy="647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995640" y="4653000"/>
            <a:ext cx="8906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ržavni razvojni program 2007 – 2009, referenčni okvir ter operativni programi posredovani v Bruselj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Operativni program krepitve regionalnih razvojnih programo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rektne vzpodbude (regionalni razvojni program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ektorske vzpodbude (ESS, ESRR, Kmetijski sklad, Kohezijski sklad - razpis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Območna partnerstva (sektorske vzpodbud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dikativna razporeditev sredste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Zasavska regija - 19 mio € za obdobje 2007 – 20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Na prebivalca 409 €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Predvidene dejavnost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Ekonomska in izobraževalna infrastruktura (poslovne in obrtne cone, tehnološki parki, razvojni centri regionalnega pomena, izobraževalna središča,…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Prometna infrastruktura (lokalne ceste regionalnega pomen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Okoljska infrastruktura (obvladovanje in čiščenje odpadnih voda, čistilne naprave, oskrba s pitno vodo,…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azvojni projekti v območju s posebnimi varstvenimi režimi in v turističnih območij (priprava upravljavskih načrtov ter izvedba projektov v okviru Natura 2000, turistična infrastruktura,…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azvoj urbanih območij (razvoj družbene in gospodarske infrastrukture, prenova starih mestnih jeder, prenova degradiranih in opuščenih urbanih področij,…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cialna infrastruktura (kultura, zdravstvo, socialnovarstvena infrastruktura,…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272360" cy="608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890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rektne vzpodbud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00"/>
                </a:solidFill>
                <a:latin typeface="Arial"/>
              </a:rPr>
              <a:t>Podjetniški inkub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00"/>
                </a:solidFill>
                <a:latin typeface="Arial"/>
              </a:rPr>
              <a:t>Podjetno v svet podjetništ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00"/>
                </a:solidFill>
                <a:latin typeface="Arial"/>
              </a:rPr>
              <a:t>Promocija poslovnih priložnos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00"/>
                </a:solidFill>
                <a:latin typeface="Arial"/>
              </a:rPr>
              <a:t>Preučevanje vplivov na okol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00"/>
                </a:solidFill>
                <a:latin typeface="Arial"/>
              </a:rPr>
              <a:t>Infrastruktura, ki podpira razvoj regi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Vodovod Turje-Gore-Kopitni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Modernizacija LC Marno-Turje-Kopitni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Hrastnik-Radeč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Čeče-Bob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Jesenova rav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Čeče-Kal-Bl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Liza-Vrh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Poligon varne vožnj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Zasneževanje in ureditev TRC Vrh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Zaloka-Jesenovo-Vrh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Izlake-Čemšeni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Izgradnja parkirišč v Zagorj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Ureditev regijskega sejemsko-prireditvenega prosto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Izgradnja MC in spremljajočih dejavnost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Prenova starega mestnega jedra – Cankarjev t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826920" y="115920"/>
            <a:ext cx="7274160" cy="4255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7956720" y="5661000"/>
            <a:ext cx="890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95280" y="765000"/>
          <a:ext cx="8424720" cy="518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765000"/>
                    <a:ext cx="8424720" cy="51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826920" y="189000"/>
            <a:ext cx="7490160" cy="4255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8388360" y="6021360"/>
            <a:ext cx="60336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ektorske vzpodbud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681120" y="1600200"/>
          <a:ext cx="7781760" cy="44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600200"/>
                    <a:ext cx="778176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755640" y="189000"/>
            <a:ext cx="7561440" cy="4255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8317080" y="6021360"/>
            <a:ext cx="60156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81120" y="1600200"/>
          <a:ext cx="778176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600200"/>
                    <a:ext cx="77817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1403280" y="189000"/>
            <a:ext cx="6551640" cy="4255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8906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07:14:40Z</dcterms:created>
  <dc:creator>Helena Butolen</dc:creator>
  <dc:description/>
  <dc:language>en-US</dc:language>
  <cp:lastModifiedBy>Helena Butolen</cp:lastModifiedBy>
  <dcterms:modified xsi:type="dcterms:W3CDTF">2007-03-30T09:26:16Z</dcterms:modified>
  <cp:revision>9</cp:revision>
  <dc:subject/>
  <dc:title>IZVEDBENI NAČRT RRP ZASAVSKE REGIJE ZA OBDOBJE 2007-2009</dc:title>
</cp:coreProperties>
</file>